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C40-6240-46D5-94D6-05985457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8D9-2CD2-4D96-9893-B0B35D88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338-EC8B-4D18-AE61-96D96E73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FD7-8D6F-471D-9E80-D14DAA8E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A08-3F22-4BB2-8788-EB43D2C9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3D1-0D62-49B4-AB29-CF2F03B9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CEB-C65A-41D0-8BD4-BFD0663F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33C-451A-476B-9043-D349FDDF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968-482F-417E-8529-B7CF1ECB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4AE-0EC8-4F2B-B6F8-2BD928F3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21B-2112-4286-ACB0-2B8460EF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1EA-2C9B-42C0-80B8-1DACC9A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B4952-5F61-471F-95CB-06E6058597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22644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36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  My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2547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789280" y="4086360"/>
            <a:ext cx="5365800" cy="15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7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9"/>
          <p:cNvSpPr/>
          <p:nvPr/>
        </p:nvSpPr>
        <p:spPr>
          <a:xfrm>
            <a:off x="739800" y="15638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ogether / tə ɡeð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1000440" y="3252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1779480" y="2992320"/>
            <a:ext cx="409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go shopping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一起去购物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997920" y="4727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1835280" y="4473720"/>
            <a:ext cx="439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et togeth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聚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 togeth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起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0"/>
          <p:cNvSpPr/>
          <p:nvPr/>
        </p:nvSpPr>
        <p:spPr>
          <a:xfrm>
            <a:off x="2685960" y="2300400"/>
            <a:ext cx="345456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+ get + her =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1191960" y="2444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17"/>
          <p:cNvSpPr/>
          <p:nvPr/>
        </p:nvSpPr>
        <p:spPr>
          <a:xfrm>
            <a:off x="3521880" y="16066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日常活动的常用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18"/>
          <p:cNvSpPr/>
          <p:nvPr/>
        </p:nvSpPr>
        <p:spPr>
          <a:xfrm>
            <a:off x="973080" y="17254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9"/>
          <p:cNvSpPr/>
          <p:nvPr/>
        </p:nvSpPr>
        <p:spPr>
          <a:xfrm>
            <a:off x="1297080" y="17161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9" descr="book.gif"/>
          <p:cNvPicPr/>
          <p:nvPr/>
        </p:nvPicPr>
        <p:blipFill>
          <a:blip r:embed="rId2"/>
          <a:stretch/>
        </p:blipFill>
        <p:spPr>
          <a:xfrm>
            <a:off x="231840" y="1598760"/>
            <a:ext cx="108720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319040" y="2573280"/>
          <a:ext cx="6732720" cy="3200400"/>
        </p:xfrm>
        <a:graphic>
          <a:graphicData uri="http://schemas.openxmlformats.org/drawingml/2006/table">
            <a:tbl>
              <a:tblPr/>
              <a:tblGrid>
                <a:gridCol w="3181320"/>
                <a:gridCol w="35514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常用短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同义短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ave fun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玩得开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ave a good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for a walk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散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ake a wal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atch a film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看电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ee a fil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ly kites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放风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ly a k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5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847800" y="1563840"/>
            <a:ext cx="37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ilm /fɪlm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电影；影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"/>
          <p:cNvSpPr/>
          <p:nvPr/>
        </p:nvSpPr>
        <p:spPr>
          <a:xfrm>
            <a:off x="1107000" y="2563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1886040" y="2303640"/>
            <a:ext cx="654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mily likes to watch a film at the cin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家人喜欢在电影院看电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1200960" y="4122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2481120" y="3870360"/>
            <a:ext cx="22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lm 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胶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17"/>
          <p:cNvSpPr/>
          <p:nvPr/>
        </p:nvSpPr>
        <p:spPr>
          <a:xfrm>
            <a:off x="3006720" y="1627200"/>
            <a:ext cx="24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e /wiː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8"/>
          <p:cNvSpPr/>
          <p:nvPr/>
        </p:nvSpPr>
        <p:spPr>
          <a:xfrm>
            <a:off x="973080" y="174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9"/>
          <p:cNvSpPr/>
          <p:nvPr/>
        </p:nvSpPr>
        <p:spPr>
          <a:xfrm>
            <a:off x="1297080" y="17384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816200" y="2421000"/>
            <a:ext cx="66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主语的一般现在时的句子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面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者是动词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9" descr="book.gif"/>
          <p:cNvPicPr/>
          <p:nvPr/>
        </p:nvPicPr>
        <p:blipFill>
          <a:blip r:embed="rId2"/>
          <a:stretch/>
        </p:blipFill>
        <p:spPr>
          <a:xfrm>
            <a:off x="231840" y="16192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1029960" y="2681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022040" y="4137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1811160" y="3879720"/>
            <a:ext cx="66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are good friend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是好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work every day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每天都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4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"/>
          <p:cNvGrpSpPr/>
          <p:nvPr/>
        </p:nvGrpSpPr>
        <p:grpSpPr>
          <a:xfrm>
            <a:off x="1020600" y="1454040"/>
            <a:ext cx="851040" cy="551160"/>
            <a:chOff x="1020600" y="1454040"/>
            <a:chExt cx="851040" cy="551160"/>
          </a:xfrm>
        </p:grpSpPr>
        <p:pic>
          <p:nvPicPr>
            <p:cNvPr id="167" name="图片 18" descr=""/>
            <p:cNvPicPr/>
            <p:nvPr/>
          </p:nvPicPr>
          <p:blipFill>
            <a:blip r:embed="rId2"/>
            <a:stretch/>
          </p:blipFill>
          <p:spPr>
            <a:xfrm>
              <a:off x="1020600" y="1547280"/>
              <a:ext cx="32364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16"/>
            <p:cNvSpPr/>
            <p:nvPr/>
          </p:nvSpPr>
          <p:spPr>
            <a:xfrm>
              <a:off x="1386000" y="145404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拓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2"/>
          <p:cNvSpPr/>
          <p:nvPr/>
        </p:nvSpPr>
        <p:spPr>
          <a:xfrm>
            <a:off x="2068560" y="1327320"/>
            <a:ext cx="23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代词知识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85760" y="2146320"/>
          <a:ext cx="7024680" cy="3902040"/>
        </p:xfrm>
        <a:graphic>
          <a:graphicData uri="http://schemas.openxmlformats.org/drawingml/2006/table">
            <a:tbl>
              <a:tblPr/>
              <a:tblGrid>
                <a:gridCol w="1846440"/>
                <a:gridCol w="1377720"/>
                <a:gridCol w="1347840"/>
                <a:gridCol w="2452680"/>
              </a:tblGrid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宾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形容词性物主代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你，你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她、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e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文本框 8" descr=""/>
          <p:cNvPicPr/>
          <p:nvPr/>
        </p:nvPicPr>
        <p:blipFill>
          <a:blip r:embed="rId1"/>
          <a:stretch/>
        </p:blipFill>
        <p:spPr>
          <a:xfrm>
            <a:off x="3313080" y="138240"/>
            <a:ext cx="3157560" cy="715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1"/>
          <p:cNvGrpSpPr/>
          <p:nvPr/>
        </p:nvGrpSpPr>
        <p:grpSpPr>
          <a:xfrm>
            <a:off x="1079640" y="1768320"/>
            <a:ext cx="7553160" cy="3446640"/>
            <a:chOff x="1079640" y="1768320"/>
            <a:chExt cx="7553160" cy="3446640"/>
          </a:xfrm>
        </p:grpSpPr>
        <p:pic>
          <p:nvPicPr>
            <p:cNvPr id="173" name="Picture 13" descr="C:\Users\Administrator\Desktop\QQ截图20170528152149.jpg"/>
            <p:cNvPicPr/>
            <p:nvPr/>
          </p:nvPicPr>
          <p:blipFill>
            <a:blip r:embed="rId2"/>
            <a:stretch/>
          </p:blipFill>
          <p:spPr>
            <a:xfrm>
              <a:off x="1079640" y="1768320"/>
              <a:ext cx="7351560" cy="34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矩形 1"/>
            <p:cNvSpPr/>
            <p:nvPr/>
          </p:nvSpPr>
          <p:spPr>
            <a:xfrm>
              <a:off x="1337040" y="1896120"/>
              <a:ext cx="25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What does your family like to do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"/>
            <p:cNvSpPr/>
            <p:nvPr/>
          </p:nvSpPr>
          <p:spPr>
            <a:xfrm>
              <a:off x="4258080" y="2062440"/>
              <a:ext cx="437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We like to fly kites in the park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1"/>
          <p:cNvSpPr/>
          <p:nvPr/>
        </p:nvSpPr>
        <p:spPr>
          <a:xfrm>
            <a:off x="969840" y="1157400"/>
            <a:ext cx="62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air work. Ask and answer. Then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292400" y="5268960"/>
            <a:ext cx="62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338120" y="5245200"/>
            <a:ext cx="44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mily likes to... We...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587520" y="1571760"/>
            <a:ext cx="829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开小火车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人一组，每人用一句话来描述自己家庭中某个成员的爱好，看哪个小组先完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示范语言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ther likes to go for a w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grandmother likes to watch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4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文本框 8" descr=""/>
          <p:cNvPicPr/>
          <p:nvPr/>
        </p:nvPicPr>
        <p:blipFill>
          <a:blip r:embed="rId1"/>
          <a:stretch/>
        </p:blipFill>
        <p:spPr>
          <a:xfrm>
            <a:off x="1739880" y="131760"/>
            <a:ext cx="6253200" cy="78264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1"/>
          <p:cNvGrpSpPr/>
          <p:nvPr/>
        </p:nvGrpSpPr>
        <p:grpSpPr>
          <a:xfrm>
            <a:off x="1200240" y="1438200"/>
            <a:ext cx="6743520" cy="4000680"/>
            <a:chOff x="1200240" y="1438200"/>
            <a:chExt cx="6743520" cy="4000680"/>
          </a:xfrm>
        </p:grpSpPr>
        <p:pic>
          <p:nvPicPr>
            <p:cNvPr id="185" name="Picture 13" descr="C:\Users\Administrator\Desktop\QQ截图20170528153052.jpg"/>
            <p:cNvPicPr/>
            <p:nvPr/>
          </p:nvPicPr>
          <p:blipFill>
            <a:blip r:embed="rId2"/>
            <a:stretch/>
          </p:blipFill>
          <p:spPr>
            <a:xfrm>
              <a:off x="1200240" y="1438200"/>
              <a:ext cx="6743520" cy="40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矩形 14"/>
            <p:cNvSpPr/>
            <p:nvPr/>
          </p:nvSpPr>
          <p:spPr>
            <a:xfrm>
              <a:off x="2252520" y="170604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8"/>
            <p:cNvSpPr/>
            <p:nvPr/>
          </p:nvSpPr>
          <p:spPr>
            <a:xfrm>
              <a:off x="2169360" y="272916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l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9"/>
            <p:cNvSpPr/>
            <p:nvPr/>
          </p:nvSpPr>
          <p:spPr>
            <a:xfrm>
              <a:off x="2169360" y="222120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21"/>
            <p:cNvSpPr/>
            <p:nvPr/>
          </p:nvSpPr>
          <p:spPr>
            <a:xfrm>
              <a:off x="4287600" y="170604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22"/>
            <p:cNvSpPr/>
            <p:nvPr/>
          </p:nvSpPr>
          <p:spPr>
            <a:xfrm>
              <a:off x="6555240" y="1706040"/>
              <a:ext cx="3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3"/>
            <p:cNvSpPr/>
            <p:nvPr/>
          </p:nvSpPr>
          <p:spPr>
            <a:xfrm>
              <a:off x="4156920" y="2221200"/>
              <a:ext cx="10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24"/>
            <p:cNvSpPr/>
            <p:nvPr/>
          </p:nvSpPr>
          <p:spPr>
            <a:xfrm>
              <a:off x="6377040" y="2199960"/>
              <a:ext cx="9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25"/>
            <p:cNvSpPr/>
            <p:nvPr/>
          </p:nvSpPr>
          <p:spPr>
            <a:xfrm>
              <a:off x="4169880" y="2729160"/>
              <a:ext cx="77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w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6"/>
            <p:cNvSpPr/>
            <p:nvPr/>
          </p:nvSpPr>
          <p:spPr>
            <a:xfrm>
              <a:off x="6495840" y="2729160"/>
              <a:ext cx="9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27"/>
            <p:cNvSpPr/>
            <p:nvPr/>
          </p:nvSpPr>
          <p:spPr>
            <a:xfrm>
              <a:off x="1681200" y="344268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ry to re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28"/>
            <p:cNvSpPr/>
            <p:nvPr/>
          </p:nvSpPr>
          <p:spPr>
            <a:xfrm>
              <a:off x="3287520" y="491472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9"/>
            <p:cNvSpPr/>
            <p:nvPr/>
          </p:nvSpPr>
          <p:spPr>
            <a:xfrm>
              <a:off x="4981320" y="4923000"/>
              <a:ext cx="9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a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30"/>
            <p:cNvSpPr/>
            <p:nvPr/>
          </p:nvSpPr>
          <p:spPr>
            <a:xfrm>
              <a:off x="6753240" y="4923000"/>
              <a:ext cx="89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657360" y="128916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My parents like to _______ a film at the cin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           B. watching             C. w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Jenny ________ dance in mher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ikes              B. like to                C. like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3897360" y="2263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359080" y="3754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204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17" descr=""/>
          <p:cNvPicPr/>
          <p:nvPr/>
        </p:nvPicPr>
        <p:blipFill>
          <a:blip r:embed="rId2"/>
          <a:stretch/>
        </p:blipFill>
        <p:spPr>
          <a:xfrm>
            <a:off x="7412040" y="2320920"/>
            <a:ext cx="153360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716040" y="1362240"/>
            <a:ext cx="804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用单词的适当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, their, my, his, they, we, it, she, her,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 (1) have a small family. _____ (2) father is a work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 (3) goes to work by bike. _____ (4) bike is black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 (5) is very big. My mother is a teacher. She loves 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6) work very muc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 (7) live together happ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019160" y="3084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4824360" y="30830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949320" y="38210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4975200" y="382104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214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6"/>
          <p:cNvSpPr/>
          <p:nvPr/>
        </p:nvSpPr>
        <p:spPr>
          <a:xfrm>
            <a:off x="968400" y="45640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911160" y="52833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4619520" y="528336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925560" y="1739880"/>
            <a:ext cx="384804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3"/>
          <a:stretch/>
        </p:blipFill>
        <p:spPr>
          <a:xfrm>
            <a:off x="5106960" y="1712880"/>
            <a:ext cx="3090960" cy="26719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2057040" y="5062680"/>
            <a:ext cx="55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like to do with your fam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961920" y="139392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985680" y="3021120"/>
            <a:ext cx="763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, together, film,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your family like to do, 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mily likes to go for a walk togethe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4"/>
          <p:cNvSpPr/>
          <p:nvPr/>
        </p:nvSpPr>
        <p:spPr>
          <a:xfrm>
            <a:off x="0" y="0"/>
            <a:ext cx="92502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2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27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8" descr=""/>
          <p:cNvPicPr/>
          <p:nvPr/>
        </p:nvPicPr>
        <p:blipFill>
          <a:blip r:embed="rId1"/>
          <a:stretch/>
        </p:blipFill>
        <p:spPr>
          <a:xfrm>
            <a:off x="1987560" y="262080"/>
            <a:ext cx="5838840" cy="585720"/>
          </a:xfrm>
          <a:prstGeom prst="rect">
            <a:avLst/>
          </a:prstGeom>
          <a:ln w="0">
            <a:noFill/>
          </a:ln>
        </p:spPr>
      </p:pic>
      <p:sp>
        <p:nvSpPr>
          <p:cNvPr id="66" name="矩形 11"/>
          <p:cNvSpPr/>
          <p:nvPr/>
        </p:nvSpPr>
        <p:spPr>
          <a:xfrm>
            <a:off x="6156360" y="2987640"/>
            <a:ext cx="2401920" cy="160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725400" y="11746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 Zha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your family like to do, 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likes to go for a wal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ike to watch a film at the cin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ike to watch the animals at the z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ike to plant vegetables on the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ike to fly kites in the p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C:\Users\Administrator\Desktop\QQ截图20170528142649.jpg"/>
          <p:cNvPicPr/>
          <p:nvPr/>
        </p:nvPicPr>
        <p:blipFill>
          <a:blip r:embed="rId2"/>
          <a:stretch/>
        </p:blipFill>
        <p:spPr>
          <a:xfrm>
            <a:off x="6245280" y="3132000"/>
            <a:ext cx="226044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7"/>
          <p:cNvSpPr/>
          <p:nvPr/>
        </p:nvSpPr>
        <p:spPr>
          <a:xfrm>
            <a:off x="2643120" y="14493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es your family like to d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李明，你的家人喜欢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18"/>
          <p:cNvSpPr/>
          <p:nvPr/>
        </p:nvSpPr>
        <p:spPr>
          <a:xfrm>
            <a:off x="738360" y="157176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9"/>
          <p:cNvSpPr/>
          <p:nvPr/>
        </p:nvSpPr>
        <p:spPr>
          <a:xfrm>
            <a:off x="1106640" y="1573200"/>
            <a:ext cx="14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9" descr="book.gif"/>
          <p:cNvPicPr/>
          <p:nvPr/>
        </p:nvPicPr>
        <p:blipFill>
          <a:blip r:embed="rId2"/>
          <a:stretch/>
        </p:blipFill>
        <p:spPr>
          <a:xfrm>
            <a:off x="47520" y="146376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7"/>
          <p:cNvSpPr/>
          <p:nvPr/>
        </p:nvSpPr>
        <p:spPr>
          <a:xfrm>
            <a:off x="833400" y="2610000"/>
            <a:ext cx="60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式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+ do/does 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987840" y="353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0"/>
          <p:cNvSpPr/>
          <p:nvPr/>
        </p:nvSpPr>
        <p:spPr>
          <a:xfrm>
            <a:off x="1766880" y="3271680"/>
            <a:ext cx="68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句式用来询问“某人喜欢做什么？”本句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r fami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个整体，相当于单数第三人称，问句中的助动 词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其他的人称作主语时，助动词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0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9"/>
          <p:cNvSpPr/>
          <p:nvPr/>
        </p:nvSpPr>
        <p:spPr>
          <a:xfrm>
            <a:off x="768240" y="2427120"/>
            <a:ext cx="54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amily / fæməli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家庭，家；亲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1000440" y="3430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1779480" y="3170160"/>
            <a:ext cx="53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a big family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有一个大家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090800" y="41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2653200" y="418932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 → famili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复数）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1123920" y="4905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构成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2416320" y="4651200"/>
            <a:ext cx="44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 na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 tre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家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999000" y="1825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4"/>
          <p:cNvSpPr/>
          <p:nvPr/>
        </p:nvSpPr>
        <p:spPr>
          <a:xfrm>
            <a:off x="1778040" y="1565280"/>
            <a:ext cx="64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they like to do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喜欢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"/>
          <p:cNvPicPr/>
          <p:nvPr/>
        </p:nvPicPr>
        <p:blipFill>
          <a:blip r:embed="rId2"/>
          <a:stretch/>
        </p:blipFill>
        <p:spPr>
          <a:xfrm>
            <a:off x="7064280" y="2430360"/>
            <a:ext cx="21621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3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0"/>
          <p:cNvSpPr/>
          <p:nvPr/>
        </p:nvSpPr>
        <p:spPr>
          <a:xfrm>
            <a:off x="803160" y="2205000"/>
            <a:ext cx="65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ther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An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Mother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母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Lo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Yo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！每个单词的第一个字母组合起来构成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1224360" y="1662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首字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7"/>
          <p:cNvSpPr/>
          <p:nvPr/>
        </p:nvSpPr>
        <p:spPr>
          <a:xfrm>
            <a:off x="2709720" y="1639800"/>
            <a:ext cx="55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y family likes to go for a wal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的家人喜欢一起去散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8"/>
          <p:cNvSpPr/>
          <p:nvPr/>
        </p:nvSpPr>
        <p:spPr>
          <a:xfrm>
            <a:off x="835200" y="178128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1104840" y="17510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784520" y="3562200"/>
            <a:ext cx="677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句式用来回答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+ do/ does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like to do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“某人喜欢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是第三人称单数形式时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其他人称作主语时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9" descr="book.gif"/>
          <p:cNvPicPr/>
          <p:nvPr/>
        </p:nvPicPr>
        <p:blipFill>
          <a:blip r:embed="rId2"/>
          <a:stretch/>
        </p:blipFill>
        <p:spPr>
          <a:xfrm>
            <a:off x="63360" y="16826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05" name="矩形 1"/>
          <p:cNvSpPr/>
          <p:nvPr/>
        </p:nvSpPr>
        <p:spPr>
          <a:xfrm>
            <a:off x="773280" y="3817800"/>
            <a:ext cx="11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708120" y="290196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式：主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like/likes to 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原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"/>
          <p:cNvGrpSpPr/>
          <p:nvPr/>
        </p:nvGrpSpPr>
        <p:grpSpPr>
          <a:xfrm>
            <a:off x="692280" y="1027080"/>
            <a:ext cx="1806480" cy="1514520"/>
            <a:chOff x="692280" y="1027080"/>
            <a:chExt cx="1806480" cy="1514520"/>
          </a:xfrm>
        </p:grpSpPr>
        <p:pic>
          <p:nvPicPr>
            <p:cNvPr id="111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692280" y="102708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"/>
            <p:cNvSpPr/>
            <p:nvPr/>
          </p:nvSpPr>
          <p:spPr>
            <a:xfrm>
              <a:off x="1198800" y="134892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2"/>
          <p:cNvSpPr/>
          <p:nvPr/>
        </p:nvSpPr>
        <p:spPr>
          <a:xfrm>
            <a:off x="2239920" y="24782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ke to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面的动词要用原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247840" y="3098880"/>
            <a:ext cx="561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like to sing songs in English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喜欢在英语课上唱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 likes to go home on f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汤姆喜欢步行回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1236600" y="33544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26"/>
          <p:cNvGrpSpPr/>
          <p:nvPr/>
        </p:nvGrpSpPr>
        <p:grpSpPr>
          <a:xfrm>
            <a:off x="577800" y="2070000"/>
            <a:ext cx="1244520" cy="459720"/>
            <a:chOff x="577800" y="2070000"/>
            <a:chExt cx="1244520" cy="459720"/>
          </a:xfrm>
        </p:grpSpPr>
        <p:sp>
          <p:nvSpPr>
            <p:cNvPr id="120" name="TextBox 3"/>
            <p:cNvSpPr/>
            <p:nvPr/>
          </p:nvSpPr>
          <p:spPr>
            <a:xfrm>
              <a:off x="830520" y="20700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577800" y="213012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矩形 2"/>
          <p:cNvSpPr/>
          <p:nvPr/>
        </p:nvSpPr>
        <p:spPr>
          <a:xfrm>
            <a:off x="1839960" y="1830240"/>
            <a:ext cx="67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所给单词的正确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ys like _______ (pla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ootball and baske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3195720" y="2784600"/>
            <a:ext cx="13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1887480" y="3637080"/>
            <a:ext cx="245124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4"/>
          <a:stretch/>
        </p:blipFill>
        <p:spPr>
          <a:xfrm>
            <a:off x="5311800" y="3618000"/>
            <a:ext cx="2347920" cy="15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15:32Z</dcterms:modified>
  <cp:revision>5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